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40.wmf" ContentType="image/x-wmf"/>
  <Override PartName="/ppt/media/image6.png" ContentType="image/png"/>
  <Override PartName="/ppt/media/image50.wmf" ContentType="image/x-wmf"/>
  <Override PartName="/ppt/media/image1.jpeg" ContentType="image/jpeg"/>
  <Override PartName="/ppt/media/image89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4.wmf" ContentType="image/x-wmf"/>
  <Override PartName="/ppt/media/image33.wmf" ContentType="image/x-wmf"/>
  <Override PartName="/ppt/media/image26.wmf" ContentType="image/x-wmf"/>
  <Override PartName="/ppt/media/image91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6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11.wmf" ContentType="image/x-wmf"/>
  <Override PartName="/ppt/media/image97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87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92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6.wmf" ContentType="image/x-wmf"/>
  <Override PartName="/ppt/media/image81.wmf" ContentType="image/x-wmf"/>
  <Override PartName="/ppt/media/image25.wmf" ContentType="image/x-wmf"/>
  <Override PartName="/ppt/media/image90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988E-AE34-4F60-8E94-86AEFAF6A1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1226-854C-45AA-B319-6116FE479D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31F-F9F5-42E3-A4F7-0075ACD9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A65-70CD-4758-B73F-037A6672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B26-4F65-4B1E-883B-FB10DE7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FAE-2503-4FAC-85FD-64A2A1ED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420-8705-40B9-9E8D-6F97867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856-FD44-48D0-AC29-075604F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CDC-45FF-4C2B-A4B8-33E900E9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591-0FFA-4923-973A-FF2BF6C5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720-3106-4BE0-ABCB-1BD04B0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35A-AD3F-4452-A82E-F8E29EE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C04-9B68-4EBC-924E-706B5D1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F10-CC89-425F-A850-26D3B6C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81E-1C66-47E9-9C4E-8536A2B85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5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46.wmf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2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9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5.wm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6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72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73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7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75.wm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80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81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82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83.wmf"/><Relationship Id="rId19" Type="http://schemas.openxmlformats.org/officeDocument/2006/relationships/package" Target="../embeddings/oleObject7.docx"/><Relationship Id="rId20" Type="http://schemas.openxmlformats.org/officeDocument/2006/relationships/image" Target="../media/image84.wmf"/><Relationship Id="rId21" Type="http://schemas.openxmlformats.org/officeDocument/2006/relationships/package" Target="../embeddings/oleObject8.docx"/><Relationship Id="rId22" Type="http://schemas.openxmlformats.org/officeDocument/2006/relationships/image" Target="../media/image85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96.wmf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0.wmf"/><Relationship Id="rId8" Type="http://schemas.openxmlformats.org/officeDocument/2006/relationships/image" Target="../media/image9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4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0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4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08.wmf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04.png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09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110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111.wmf"/><Relationship Id="rId3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6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98764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的极值与最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Object 2"/>
          <p:cNvGraphicFramePr/>
          <p:nvPr/>
        </p:nvGraphicFramePr>
        <p:xfrm>
          <a:off x="755640" y="549360"/>
          <a:ext cx="6305400" cy="1015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49360"/>
                    <a:ext cx="63054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3"/>
          <p:cNvGraphicFramePr/>
          <p:nvPr/>
        </p:nvGraphicFramePr>
        <p:xfrm>
          <a:off x="1763640" y="2060640"/>
          <a:ext cx="6696000" cy="2255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63640" y="2060640"/>
                    <a:ext cx="6696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Picture 4" descr=""/>
          <p:cNvPicPr/>
          <p:nvPr/>
        </p:nvPicPr>
        <p:blipFill>
          <a:blip r:embed="rId10"/>
          <a:srcRect l="3207" t="0" r="0" b="0"/>
          <a:stretch/>
        </p:blipFill>
        <p:spPr>
          <a:xfrm>
            <a:off x="2843280" y="4365720"/>
            <a:ext cx="2968560" cy="22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8"/>
          <p:cNvGraphicFramePr/>
          <p:nvPr/>
        </p:nvGraphicFramePr>
        <p:xfrm>
          <a:off x="1116000" y="1197000"/>
          <a:ext cx="540072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6000" y="1197000"/>
                    <a:ext cx="5400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6"/>
          <p:cNvGraphicFramePr/>
          <p:nvPr/>
        </p:nvGraphicFramePr>
        <p:xfrm>
          <a:off x="1116000" y="1557360"/>
          <a:ext cx="2416320" cy="861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16000" y="1557360"/>
                    <a:ext cx="24163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7"/>
          <p:cNvGraphicFramePr/>
          <p:nvPr/>
        </p:nvGraphicFramePr>
        <p:xfrm>
          <a:off x="3708360" y="1700280"/>
          <a:ext cx="338472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3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08360" y="1700280"/>
                    <a:ext cx="3384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"/>
          <p:cNvGraphicFramePr/>
          <p:nvPr/>
        </p:nvGraphicFramePr>
        <p:xfrm>
          <a:off x="755640" y="2276640"/>
          <a:ext cx="892080" cy="45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5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5640" y="2276640"/>
                    <a:ext cx="892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9"/>
          <p:cNvGraphicFramePr/>
          <p:nvPr/>
        </p:nvGraphicFramePr>
        <p:xfrm>
          <a:off x="611280" y="4076640"/>
          <a:ext cx="7561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7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1280" y="4076640"/>
                    <a:ext cx="7561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0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5"/>
          <p:cNvSpPr/>
          <p:nvPr/>
        </p:nvSpPr>
        <p:spPr>
          <a:xfrm>
            <a:off x="457200" y="107316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42920" y="112572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979560" y="160164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193040" y="22384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3641760" y="22377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驻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7"/>
          <p:cNvGraphicFramePr/>
          <p:nvPr/>
        </p:nvGraphicFramePr>
        <p:xfrm>
          <a:off x="1332000" y="549360"/>
          <a:ext cx="5468760" cy="79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549360"/>
                    <a:ext cx="54687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4284720" y="1197000"/>
          <a:ext cx="1058760" cy="336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4720" y="1197000"/>
                    <a:ext cx="10587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9"/>
          <p:cNvGraphicFramePr/>
          <p:nvPr/>
        </p:nvGraphicFramePr>
        <p:xfrm>
          <a:off x="1979640" y="1628640"/>
          <a:ext cx="4248000" cy="4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1628640"/>
                    <a:ext cx="4248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"/>
          <p:cNvGraphicFramePr/>
          <p:nvPr/>
        </p:nvGraphicFramePr>
        <p:xfrm>
          <a:off x="2536920" y="2346480"/>
          <a:ext cx="1071360" cy="376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6920" y="2346480"/>
                    <a:ext cx="1071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1"/>
          <p:cNvGraphicFramePr/>
          <p:nvPr/>
        </p:nvGraphicFramePr>
        <p:xfrm>
          <a:off x="4788000" y="2276640"/>
          <a:ext cx="1901880" cy="442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8000" y="2276640"/>
                    <a:ext cx="19018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0"/>
          <p:cNvSpPr/>
          <p:nvPr/>
        </p:nvSpPr>
        <p:spPr>
          <a:xfrm>
            <a:off x="988920" y="2865600"/>
            <a:ext cx="32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列表讨论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87280" y="3357720"/>
          <a:ext cx="6913800" cy="2287440"/>
        </p:xfrm>
        <a:graphic>
          <a:graphicData uri="http://schemas.openxmlformats.org/drawingml/2006/table">
            <a:tbl>
              <a:tblPr/>
              <a:tblGrid>
                <a:gridCol w="1030320"/>
                <a:gridCol w="1028880"/>
                <a:gridCol w="1266840"/>
                <a:gridCol w="996840"/>
                <a:gridCol w="1386000"/>
                <a:gridCol w="12049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大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小值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1"/>
          <p:cNvSpPr/>
          <p:nvPr/>
        </p:nvSpPr>
        <p:spPr>
          <a:xfrm flipV="1">
            <a:off x="2484360" y="5013000"/>
            <a:ext cx="43200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2"/>
          <p:cNvSpPr/>
          <p:nvPr/>
        </p:nvSpPr>
        <p:spPr>
          <a:xfrm flipV="1">
            <a:off x="7236000" y="5084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3"/>
          <p:cNvSpPr/>
          <p:nvPr/>
        </p:nvSpPr>
        <p:spPr>
          <a:xfrm>
            <a:off x="4859280" y="5084640"/>
            <a:ext cx="432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51"/>
          <p:cNvGraphicFramePr/>
          <p:nvPr/>
        </p:nvGraphicFramePr>
        <p:xfrm>
          <a:off x="2411280" y="3645000"/>
          <a:ext cx="789120" cy="371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3" name="Object 5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11280" y="3645000"/>
                    <a:ext cx="789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52"/>
          <p:cNvGraphicFramePr/>
          <p:nvPr/>
        </p:nvGraphicFramePr>
        <p:xfrm>
          <a:off x="7020000" y="3500280"/>
          <a:ext cx="1076400" cy="439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5" name="Object 5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20000" y="3500280"/>
                    <a:ext cx="10764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53"/>
          <p:cNvGraphicFramePr/>
          <p:nvPr/>
        </p:nvGraphicFramePr>
        <p:xfrm>
          <a:off x="1476360" y="4437000"/>
          <a:ext cx="601560" cy="339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7" name="Object 5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76360" y="4437000"/>
                    <a:ext cx="601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54"/>
          <p:cNvGraphicFramePr/>
          <p:nvPr/>
        </p:nvGraphicFramePr>
        <p:xfrm>
          <a:off x="1403280" y="5013360"/>
          <a:ext cx="604800" cy="365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9" name="Object 5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403280" y="5013360"/>
                    <a:ext cx="6048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0"/>
          <p:cNvGraphicFramePr/>
          <p:nvPr/>
        </p:nvGraphicFramePr>
        <p:xfrm>
          <a:off x="1228680" y="5724360"/>
          <a:ext cx="6296040" cy="771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81" name="Object 6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28680" y="5724360"/>
                    <a:ext cx="629604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0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Object 2"/>
          <p:cNvGraphicFramePr/>
          <p:nvPr/>
        </p:nvGraphicFramePr>
        <p:xfrm>
          <a:off x="395280" y="1268280"/>
          <a:ext cx="8137440" cy="1657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268280"/>
                    <a:ext cx="8137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27"/>
          <p:cNvGraphicFramePr/>
          <p:nvPr/>
        </p:nvGraphicFramePr>
        <p:xfrm>
          <a:off x="971640" y="836640"/>
          <a:ext cx="3600360" cy="46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836640"/>
                    <a:ext cx="3600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4"/>
          <p:cNvGraphicFramePr/>
          <p:nvPr/>
        </p:nvGraphicFramePr>
        <p:xfrm>
          <a:off x="755640" y="2492280"/>
          <a:ext cx="8032680" cy="2160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492280"/>
                    <a:ext cx="80326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27"/>
          <p:cNvSpPr/>
          <p:nvPr/>
        </p:nvSpPr>
        <p:spPr>
          <a:xfrm>
            <a:off x="755640" y="4221000"/>
            <a:ext cx="17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26"/>
          <p:cNvGraphicFramePr/>
          <p:nvPr/>
        </p:nvGraphicFramePr>
        <p:xfrm>
          <a:off x="1187280" y="5589720"/>
          <a:ext cx="302436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2" name="Object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5589720"/>
                    <a:ext cx="3024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4284720" y="5589720"/>
          <a:ext cx="934920" cy="52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4720" y="5589720"/>
                    <a:ext cx="934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1332000" y="4581360"/>
          <a:ext cx="7126200" cy="982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4581360"/>
                    <a:ext cx="71262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3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9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"/>
          <p:cNvGraphicFramePr/>
          <p:nvPr/>
        </p:nvGraphicFramePr>
        <p:xfrm>
          <a:off x="1619280" y="755640"/>
          <a:ext cx="424800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2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19280" y="755640"/>
                    <a:ext cx="424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3"/>
          <p:cNvGraphicFramePr/>
          <p:nvPr/>
        </p:nvGraphicFramePr>
        <p:xfrm>
          <a:off x="1187280" y="1989000"/>
          <a:ext cx="4643640" cy="51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1989000"/>
                    <a:ext cx="46436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4"/>
          <p:cNvGraphicFramePr/>
          <p:nvPr/>
        </p:nvGraphicFramePr>
        <p:xfrm>
          <a:off x="1763640" y="1463760"/>
          <a:ext cx="2235240" cy="52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1463760"/>
                    <a:ext cx="2235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Text Box 6"/>
          <p:cNvSpPr/>
          <p:nvPr/>
        </p:nvSpPr>
        <p:spPr>
          <a:xfrm>
            <a:off x="714240" y="692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784080" y="131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7"/>
          <p:cNvGraphicFramePr/>
          <p:nvPr/>
        </p:nvGraphicFramePr>
        <p:xfrm>
          <a:off x="1619280" y="2565360"/>
          <a:ext cx="1584360" cy="48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0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9280" y="2565360"/>
                    <a:ext cx="1584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8"/>
          <p:cNvGraphicFramePr/>
          <p:nvPr/>
        </p:nvGraphicFramePr>
        <p:xfrm>
          <a:off x="1258920" y="3213000"/>
          <a:ext cx="4470480" cy="50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58920" y="3213000"/>
                    <a:ext cx="4470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8"/>
          <p:cNvSpPr/>
          <p:nvPr/>
        </p:nvSpPr>
        <p:spPr>
          <a:xfrm>
            <a:off x="1917720" y="3933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第二判别方法可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10"/>
          <p:cNvGraphicFramePr/>
          <p:nvPr/>
        </p:nvGraphicFramePr>
        <p:xfrm>
          <a:off x="1246320" y="4653000"/>
          <a:ext cx="59180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5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46320" y="4653000"/>
                    <a:ext cx="591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1"/>
          <p:cNvGraphicFramePr/>
          <p:nvPr/>
        </p:nvGraphicFramePr>
        <p:xfrm>
          <a:off x="1187280" y="5229360"/>
          <a:ext cx="5905800" cy="525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87280" y="5229360"/>
                    <a:ext cx="5905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6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0" name="Object 2"/>
          <p:cNvGraphicFramePr/>
          <p:nvPr/>
        </p:nvGraphicFramePr>
        <p:xfrm>
          <a:off x="2050920" y="907920"/>
          <a:ext cx="5502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0920" y="907920"/>
                    <a:ext cx="5502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3"/>
          <p:cNvGraphicFramePr/>
          <p:nvPr/>
        </p:nvGraphicFramePr>
        <p:xfrm>
          <a:off x="1679400" y="2343240"/>
          <a:ext cx="557244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3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9400" y="2343240"/>
                    <a:ext cx="5572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4"/>
          <p:cNvGraphicFramePr/>
          <p:nvPr/>
        </p:nvGraphicFramePr>
        <p:xfrm>
          <a:off x="1658880" y="1670040"/>
          <a:ext cx="2376720" cy="56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5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58880" y="1670040"/>
                    <a:ext cx="23767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Text Box 6"/>
          <p:cNvSpPr/>
          <p:nvPr/>
        </p:nvSpPr>
        <p:spPr>
          <a:xfrm>
            <a:off x="126324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68400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7"/>
          <p:cNvGraphicFramePr/>
          <p:nvPr/>
        </p:nvGraphicFramePr>
        <p:xfrm>
          <a:off x="1979640" y="3068640"/>
          <a:ext cx="201132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3068640"/>
                    <a:ext cx="20113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18"/>
          <p:cNvSpPr/>
          <p:nvPr/>
        </p:nvSpPr>
        <p:spPr>
          <a:xfrm>
            <a:off x="2228760" y="39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第二判别方法可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10"/>
          <p:cNvGraphicFramePr/>
          <p:nvPr/>
        </p:nvGraphicFramePr>
        <p:xfrm>
          <a:off x="900000" y="4797360"/>
          <a:ext cx="7365960" cy="5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2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4797360"/>
                    <a:ext cx="7365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9"/>
          <p:cNvGraphicFramePr/>
          <p:nvPr/>
        </p:nvGraphicFramePr>
        <p:xfrm>
          <a:off x="4284720" y="1700280"/>
          <a:ext cx="1981080" cy="56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9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84720" y="1700280"/>
                    <a:ext cx="1981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1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2"/>
          <p:cNvGraphicFramePr/>
          <p:nvPr/>
        </p:nvGraphicFramePr>
        <p:xfrm>
          <a:off x="684360" y="1125360"/>
          <a:ext cx="7848360" cy="1872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125360"/>
                    <a:ext cx="784836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27"/>
          <p:cNvSpPr/>
          <p:nvPr/>
        </p:nvSpPr>
        <p:spPr>
          <a:xfrm>
            <a:off x="684360" y="693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与最小值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28"/>
          <p:cNvGraphicFramePr/>
          <p:nvPr/>
        </p:nvGraphicFramePr>
        <p:xfrm>
          <a:off x="1332000" y="2637000"/>
          <a:ext cx="6481800" cy="3225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2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637000"/>
                    <a:ext cx="64818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29"/>
          <p:cNvGraphicFramePr/>
          <p:nvPr/>
        </p:nvGraphicFramePr>
        <p:xfrm>
          <a:off x="611280" y="3213000"/>
          <a:ext cx="7993080" cy="2643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2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3213000"/>
                    <a:ext cx="79930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直接连接符 21"/>
          <p:cNvSpPr/>
          <p:nvPr/>
        </p:nvSpPr>
        <p:spPr>
          <a:xfrm>
            <a:off x="5003640" y="5229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30"/>
          <p:cNvGraphicFramePr/>
          <p:nvPr/>
        </p:nvGraphicFramePr>
        <p:xfrm>
          <a:off x="5292720" y="5229360"/>
          <a:ext cx="2050920" cy="952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92720" y="5229360"/>
                    <a:ext cx="205092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9" name="Object 2"/>
          <p:cNvGraphicFramePr/>
          <p:nvPr/>
        </p:nvGraphicFramePr>
        <p:xfrm>
          <a:off x="468360" y="765000"/>
          <a:ext cx="8280360" cy="13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765000"/>
                    <a:ext cx="8280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3"/>
          <p:cNvGraphicFramePr/>
          <p:nvPr/>
        </p:nvGraphicFramePr>
        <p:xfrm>
          <a:off x="611280" y="1557360"/>
          <a:ext cx="7273800" cy="719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5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557360"/>
                    <a:ext cx="7273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4"/>
          <p:cNvGraphicFramePr/>
          <p:nvPr/>
        </p:nvGraphicFramePr>
        <p:xfrm>
          <a:off x="826920" y="2349360"/>
          <a:ext cx="2810160" cy="72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349360"/>
                    <a:ext cx="28101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5"/>
          <p:cNvGraphicFramePr/>
          <p:nvPr/>
        </p:nvGraphicFramePr>
        <p:xfrm>
          <a:off x="2700360" y="2276640"/>
          <a:ext cx="5408640" cy="8254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0360" y="2276640"/>
                    <a:ext cx="54086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6"/>
          <p:cNvGraphicFramePr/>
          <p:nvPr/>
        </p:nvGraphicFramePr>
        <p:xfrm>
          <a:off x="755640" y="3213000"/>
          <a:ext cx="6624720" cy="863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55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5640" y="3213000"/>
                    <a:ext cx="6624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7"/>
          <p:cNvGraphicFramePr/>
          <p:nvPr/>
        </p:nvGraphicFramePr>
        <p:xfrm>
          <a:off x="684360" y="3860640"/>
          <a:ext cx="8059680" cy="1224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560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4360" y="3860640"/>
                    <a:ext cx="8059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6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7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8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3" name="Object 2"/>
          <p:cNvGraphicFramePr/>
          <p:nvPr/>
        </p:nvGraphicFramePr>
        <p:xfrm>
          <a:off x="755640" y="1557360"/>
          <a:ext cx="7632720" cy="3600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8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557360"/>
                    <a:ext cx="763272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7" name="Object 2"/>
          <p:cNvGraphicFramePr/>
          <p:nvPr/>
        </p:nvGraphicFramePr>
        <p:xfrm>
          <a:off x="755640" y="692280"/>
          <a:ext cx="7326360" cy="93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0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326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3"/>
          <p:cNvGraphicFramePr/>
          <p:nvPr/>
        </p:nvGraphicFramePr>
        <p:xfrm>
          <a:off x="754200" y="1266840"/>
          <a:ext cx="4681440" cy="1352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1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266840"/>
                    <a:ext cx="46814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1" name="Picture 4" descr=""/>
          <p:cNvPicPr/>
          <p:nvPr/>
        </p:nvPicPr>
        <p:blipFill>
          <a:blip r:embed="rId10"/>
          <a:srcRect l="5253" t="0" r="0" b="0"/>
          <a:stretch/>
        </p:blipFill>
        <p:spPr>
          <a:xfrm>
            <a:off x="5364000" y="1341360"/>
            <a:ext cx="295308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2" name="Object 4"/>
          <p:cNvGraphicFramePr/>
          <p:nvPr/>
        </p:nvGraphicFramePr>
        <p:xfrm>
          <a:off x="1332000" y="2060640"/>
          <a:ext cx="2246400" cy="7189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2060640"/>
                    <a:ext cx="22464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468360" y="2565360"/>
          <a:ext cx="4751280" cy="576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2565360"/>
                    <a:ext cx="4751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6"/>
          <p:cNvGraphicFramePr/>
          <p:nvPr/>
        </p:nvGraphicFramePr>
        <p:xfrm>
          <a:off x="971640" y="2060640"/>
          <a:ext cx="1122120" cy="7920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2060640"/>
                    <a:ext cx="11221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7"/>
          <p:cNvGraphicFramePr/>
          <p:nvPr/>
        </p:nvGraphicFramePr>
        <p:xfrm>
          <a:off x="468360" y="3500280"/>
          <a:ext cx="5183280" cy="1008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619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8360" y="3500280"/>
                    <a:ext cx="51832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8"/>
          <p:cNvGraphicFramePr/>
          <p:nvPr/>
        </p:nvGraphicFramePr>
        <p:xfrm>
          <a:off x="611280" y="4292640"/>
          <a:ext cx="6769080" cy="207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621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1280" y="4292640"/>
                    <a:ext cx="676908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9"/>
          <p:cNvGraphicFramePr/>
          <p:nvPr/>
        </p:nvGraphicFramePr>
        <p:xfrm>
          <a:off x="468360" y="2997360"/>
          <a:ext cx="1679400" cy="57600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623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8360" y="2997360"/>
                    <a:ext cx="1679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4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6" name="Object 2"/>
          <p:cNvGraphicFramePr/>
          <p:nvPr/>
        </p:nvGraphicFramePr>
        <p:xfrm>
          <a:off x="468360" y="1628640"/>
          <a:ext cx="8207280" cy="280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4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820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42920" y="1700280"/>
          <a:ext cx="7201080" cy="357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700280"/>
                    <a:ext cx="7201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6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0" name="Object 2"/>
          <p:cNvGraphicFramePr/>
          <p:nvPr/>
        </p:nvGraphicFramePr>
        <p:xfrm>
          <a:off x="900000" y="549360"/>
          <a:ext cx="7489800" cy="1538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549360"/>
                    <a:ext cx="74898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2" name="Picture 3" descr=""/>
          <p:cNvPicPr/>
          <p:nvPr/>
        </p:nvPicPr>
        <p:blipFill>
          <a:blip r:embed="rId8"/>
          <a:stretch/>
        </p:blipFill>
        <p:spPr>
          <a:xfrm>
            <a:off x="7236000" y="1413000"/>
            <a:ext cx="1295280" cy="26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Object 4"/>
          <p:cNvGraphicFramePr/>
          <p:nvPr/>
        </p:nvGraphicFramePr>
        <p:xfrm>
          <a:off x="324000" y="1844640"/>
          <a:ext cx="5256000" cy="833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1844640"/>
                    <a:ext cx="5256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4140360" y="1700280"/>
          <a:ext cx="2879640" cy="68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1700280"/>
                    <a:ext cx="28796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1547640" y="2276640"/>
          <a:ext cx="4969080" cy="79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7640" y="2276640"/>
                    <a:ext cx="49690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1763640" y="2997360"/>
          <a:ext cx="143820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63640" y="2997360"/>
                    <a:ext cx="14382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7"/>
          <p:cNvGraphicFramePr/>
          <p:nvPr/>
        </p:nvGraphicFramePr>
        <p:xfrm>
          <a:off x="900000" y="3357720"/>
          <a:ext cx="6336000" cy="79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2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3357720"/>
                    <a:ext cx="6336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8"/>
          <p:cNvGraphicFramePr/>
          <p:nvPr/>
        </p:nvGraphicFramePr>
        <p:xfrm>
          <a:off x="611280" y="4149720"/>
          <a:ext cx="8208720" cy="172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4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1280" y="4149720"/>
                    <a:ext cx="8208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0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07" name="Object 2"/>
          <p:cNvGraphicFramePr/>
          <p:nvPr/>
        </p:nvGraphicFramePr>
        <p:xfrm>
          <a:off x="539640" y="476280"/>
          <a:ext cx="8213760" cy="3287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6280"/>
                    <a:ext cx="821376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3"/>
          <p:cNvGraphicFramePr/>
          <p:nvPr/>
        </p:nvGraphicFramePr>
        <p:xfrm>
          <a:off x="257040" y="3720960"/>
          <a:ext cx="7155000" cy="1579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1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7040" y="3720960"/>
                    <a:ext cx="71550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1" name="Picture 9" descr=""/>
          <p:cNvPicPr/>
          <p:nvPr/>
        </p:nvPicPr>
        <p:blipFill>
          <a:blip r:embed="rId10"/>
          <a:srcRect l="37450" t="18898" r="24850" b="44925"/>
          <a:stretch/>
        </p:blipFill>
        <p:spPr>
          <a:xfrm>
            <a:off x="6300720" y="2924280"/>
            <a:ext cx="2590920" cy="34066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9"/>
          <p:cNvSpPr/>
          <p:nvPr/>
        </p:nvSpPr>
        <p:spPr>
          <a:xfrm>
            <a:off x="6804000" y="479736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Object 30"/>
          <p:cNvGraphicFramePr/>
          <p:nvPr/>
        </p:nvGraphicFramePr>
        <p:xfrm>
          <a:off x="1332000" y="4292640"/>
          <a:ext cx="50562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5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292640"/>
                    <a:ext cx="5056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Object 32"/>
          <p:cNvGraphicFramePr/>
          <p:nvPr/>
        </p:nvGraphicFramePr>
        <p:xfrm>
          <a:off x="1835280" y="5084640"/>
          <a:ext cx="309708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8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5084640"/>
                    <a:ext cx="3097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2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2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3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3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41" name="Object 3"/>
          <p:cNvGraphicFramePr/>
          <p:nvPr/>
        </p:nvGraphicFramePr>
        <p:xfrm>
          <a:off x="971640" y="1413000"/>
          <a:ext cx="6062400" cy="4956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4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413000"/>
                    <a:ext cx="6062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3" name="Picture 9" descr=""/>
          <p:cNvPicPr/>
          <p:nvPr/>
        </p:nvPicPr>
        <p:blipFill>
          <a:blip r:embed="rId8"/>
          <a:srcRect l="37450" t="18898" r="24850" b="44925"/>
          <a:stretch/>
        </p:blipFill>
        <p:spPr>
          <a:xfrm>
            <a:off x="6084720" y="480960"/>
            <a:ext cx="2664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6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6" name="Object 2"/>
          <p:cNvGraphicFramePr/>
          <p:nvPr/>
        </p:nvGraphicFramePr>
        <p:xfrm>
          <a:off x="1876320" y="2570040"/>
          <a:ext cx="2048040" cy="48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76320" y="2570040"/>
                    <a:ext cx="2048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3"/>
          <p:cNvGraphicFramePr/>
          <p:nvPr/>
        </p:nvGraphicFramePr>
        <p:xfrm>
          <a:off x="2195640" y="3645000"/>
          <a:ext cx="2166840" cy="43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5640" y="3645000"/>
                    <a:ext cx="21668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4"/>
          <p:cNvSpPr/>
          <p:nvPr/>
        </p:nvSpPr>
        <p:spPr>
          <a:xfrm>
            <a:off x="666360" y="76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018880" y="198900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剪去的小正方形的边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757080" y="17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7"/>
          <p:cNvGraphicFramePr/>
          <p:nvPr/>
        </p:nvGraphicFramePr>
        <p:xfrm>
          <a:off x="1476360" y="3068640"/>
          <a:ext cx="4390920" cy="49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068640"/>
                    <a:ext cx="43909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Text Box 10"/>
          <p:cNvSpPr/>
          <p:nvPr/>
        </p:nvSpPr>
        <p:spPr>
          <a:xfrm>
            <a:off x="1332000" y="765000"/>
            <a:ext cx="70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一块边长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正方形铁皮，在四角各剪去一个相等的正方形，制作一个无盖容器，问在四角剪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大的正方形才能使容积最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5947200" y="206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方盒的容积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497736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654300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题意知，最大容积一定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12"/>
          <p:cNvGrpSpPr/>
          <p:nvPr/>
        </p:nvGrpSpPr>
        <p:grpSpPr>
          <a:xfrm>
            <a:off x="1017000" y="4149720"/>
            <a:ext cx="1596600" cy="520560"/>
            <a:chOff x="1017000" y="4149720"/>
            <a:chExt cx="1596600" cy="520560"/>
          </a:xfrm>
        </p:grpSpPr>
        <p:grpSp>
          <p:nvGrpSpPr>
            <p:cNvPr id="780" name="Group 13"/>
            <p:cNvGrpSpPr/>
            <p:nvPr/>
          </p:nvGrpSpPr>
          <p:grpSpPr>
            <a:xfrm>
              <a:off x="1017000" y="4149720"/>
              <a:ext cx="1596600" cy="520560"/>
              <a:chOff x="1017000" y="4149720"/>
              <a:chExt cx="1596600" cy="520560"/>
            </a:xfrm>
          </p:grpSpPr>
          <p:sp>
            <p:nvSpPr>
              <p:cNvPr id="781" name="Text Box 15"/>
              <p:cNvSpPr/>
              <p:nvPr/>
            </p:nvSpPr>
            <p:spPr>
              <a:xfrm>
                <a:off x="1017000" y="4149720"/>
                <a:ext cx="15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令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     ，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82" name="Object 15"/>
              <p:cNvGraphicFramePr/>
              <p:nvPr/>
            </p:nvGraphicFramePr>
            <p:xfrm>
              <a:off x="1541520" y="4164120"/>
              <a:ext cx="296640" cy="4618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783" name="Object 1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541520" y="4164120"/>
                        <a:ext cx="296640" cy="46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4" name="Object 16"/>
            <p:cNvGraphicFramePr/>
            <p:nvPr/>
          </p:nvGraphicFramePr>
          <p:xfrm>
            <a:off x="1171440" y="4226040"/>
            <a:ext cx="936720" cy="40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85" name="Object 1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71440" y="4226040"/>
                      <a:ext cx="9367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6" name="Object 17"/>
          <p:cNvGraphicFramePr/>
          <p:nvPr/>
        </p:nvGraphicFramePr>
        <p:xfrm>
          <a:off x="2916360" y="4076640"/>
          <a:ext cx="1803240" cy="822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7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4076640"/>
                    <a:ext cx="18032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Group 18"/>
          <p:cNvGrpSpPr/>
          <p:nvPr/>
        </p:nvGrpSpPr>
        <p:grpSpPr>
          <a:xfrm>
            <a:off x="539640" y="4869000"/>
            <a:ext cx="4916520" cy="861480"/>
            <a:chOff x="539640" y="4869000"/>
            <a:chExt cx="4916520" cy="861480"/>
          </a:xfrm>
        </p:grpSpPr>
        <p:grpSp>
          <p:nvGrpSpPr>
            <p:cNvPr id="789" name="Group 19"/>
            <p:cNvGrpSpPr/>
            <p:nvPr/>
          </p:nvGrpSpPr>
          <p:grpSpPr>
            <a:xfrm>
              <a:off x="539640" y="5071680"/>
              <a:ext cx="4916520" cy="459720"/>
              <a:chOff x="539640" y="5071680"/>
              <a:chExt cx="4916520" cy="459720"/>
            </a:xfrm>
          </p:grpSpPr>
          <p:sp>
            <p:nvSpPr>
              <p:cNvPr id="790" name="Text Box 20"/>
              <p:cNvSpPr/>
              <p:nvPr/>
            </p:nvSpPr>
            <p:spPr>
              <a:xfrm>
                <a:off x="539640" y="5071680"/>
                <a:ext cx="491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在          内有唯一驻点          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91" name="Object 22"/>
              <p:cNvGraphicFramePr/>
              <p:nvPr/>
            </p:nvGraphicFramePr>
            <p:xfrm>
              <a:off x="1185840" y="5111280"/>
              <a:ext cx="209520" cy="325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792" name="Object 22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1185840" y="5111280"/>
                        <a:ext cx="209520" cy="32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3" name="Object 23"/>
            <p:cNvGraphicFramePr/>
            <p:nvPr/>
          </p:nvGraphicFramePr>
          <p:xfrm>
            <a:off x="971280" y="4939920"/>
            <a:ext cx="766800" cy="7905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94" name="Object 2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71280" y="4939920"/>
                      <a:ext cx="7668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24"/>
            <p:cNvGraphicFramePr/>
            <p:nvPr/>
          </p:nvGraphicFramePr>
          <p:xfrm>
            <a:off x="3635280" y="4869000"/>
            <a:ext cx="849240" cy="8218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796" name="Object 2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635280" y="4869000"/>
                      <a:ext cx="8492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7" name="Group 25"/>
          <p:cNvGrpSpPr/>
          <p:nvPr/>
        </p:nvGrpSpPr>
        <p:grpSpPr>
          <a:xfrm>
            <a:off x="2875680" y="5516640"/>
            <a:ext cx="6255720" cy="1341360"/>
            <a:chOff x="2875680" y="5516640"/>
            <a:chExt cx="6255720" cy="1341360"/>
          </a:xfrm>
        </p:grpSpPr>
        <p:sp>
          <p:nvSpPr>
            <p:cNvPr id="798" name="AutoShape 8">
              <a:hlinkClick r:id="" action="ppaction://hlinkshowjump?jump=previousslide"/>
              <a:hlinkClick r:id="rId24"/>
            </p:cNvPr>
            <p:cNvSpPr/>
            <p:nvPr/>
          </p:nvSpPr>
          <p:spPr>
            <a:xfrm>
              <a:off x="8318520" y="5823000"/>
              <a:ext cx="812880" cy="304560"/>
            </a:xfrm>
            <a:custGeom>
              <a:avLst/>
              <a:gdLst>
                <a:gd name="textAreaLeft" fmla="*/ 19440 w 812880"/>
                <a:gd name="textAreaRight" fmla="*/ 793440 w 81288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57609" h="21600">
                  <a:moveTo>
                    <a:pt x="0" y="0"/>
                  </a:moveTo>
                  <a:lnTo>
                    <a:pt x="57609" y="0"/>
                  </a:lnTo>
                  <a:lnTo>
                    <a:pt x="57609" y="21600"/>
                  </a:lnTo>
                  <a:lnTo>
                    <a:pt x="0" y="21600"/>
                  </a:lnTo>
                  <a:close/>
                </a:path>
                <a:path fill="lightenLess" w="57609" h="21600">
                  <a:moveTo>
                    <a:pt x="0" y="0"/>
                  </a:moveTo>
                  <a:lnTo>
                    <a:pt x="57609" y="0"/>
                  </a:lnTo>
                  <a:lnTo>
                    <a:pt x="56209" y="1400"/>
                  </a:lnTo>
                  <a:lnTo>
                    <a:pt x="1400" y="1400"/>
                  </a:lnTo>
                  <a:close/>
                </a:path>
                <a:path fill="darken" w="57609" h="21600">
                  <a:moveTo>
                    <a:pt x="57609" y="0"/>
                  </a:moveTo>
                  <a:lnTo>
                    <a:pt x="57609" y="21600"/>
                  </a:lnTo>
                  <a:lnTo>
                    <a:pt x="56209" y="20200"/>
                  </a:lnTo>
                  <a:lnTo>
                    <a:pt x="56209" y="1400"/>
                  </a:lnTo>
                  <a:close/>
                </a:path>
                <a:path fill="darkenLess" w="57609" h="21600">
                  <a:moveTo>
                    <a:pt x="5760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209" y="20200"/>
                  </a:lnTo>
                  <a:close/>
                </a:path>
                <a:path fill="lighten" w="5760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9">
              <a:hlinkClick r:id="" action="ppaction://hlinkshowjump?jump=firstslide"/>
              <a:hlinkClick r:id="rId25"/>
            </p:cNvPr>
            <p:cNvSpPr/>
            <p:nvPr/>
          </p:nvSpPr>
          <p:spPr>
            <a:xfrm>
              <a:off x="8318520" y="6553080"/>
              <a:ext cx="812880" cy="304920"/>
            </a:xfrm>
            <a:custGeom>
              <a:avLst/>
              <a:gdLst>
                <a:gd name="textAreaLeft" fmla="*/ 19440 w 812880"/>
                <a:gd name="textAreaRight" fmla="*/ 793440 w 812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57541" h="21600">
                  <a:moveTo>
                    <a:pt x="0" y="0"/>
                  </a:moveTo>
                  <a:lnTo>
                    <a:pt x="57541" y="0"/>
                  </a:lnTo>
                  <a:lnTo>
                    <a:pt x="57541" y="21600"/>
                  </a:lnTo>
                  <a:lnTo>
                    <a:pt x="0" y="21600"/>
                  </a:lnTo>
                  <a:close/>
                </a:path>
                <a:path fill="lightenLess" w="57541" h="21600">
                  <a:moveTo>
                    <a:pt x="0" y="0"/>
                  </a:moveTo>
                  <a:lnTo>
                    <a:pt x="57541" y="0"/>
                  </a:lnTo>
                  <a:lnTo>
                    <a:pt x="56141" y="1400"/>
                  </a:lnTo>
                  <a:lnTo>
                    <a:pt x="1400" y="1400"/>
                  </a:lnTo>
                  <a:close/>
                </a:path>
                <a:path fill="darken" w="57541" h="21600">
                  <a:moveTo>
                    <a:pt x="57541" y="0"/>
                  </a:moveTo>
                  <a:lnTo>
                    <a:pt x="57541" y="21600"/>
                  </a:lnTo>
                  <a:lnTo>
                    <a:pt x="56141" y="20200"/>
                  </a:lnTo>
                  <a:lnTo>
                    <a:pt x="56141" y="1400"/>
                  </a:lnTo>
                  <a:close/>
                </a:path>
                <a:path fill="darkenLess" w="57541" h="21600">
                  <a:moveTo>
                    <a:pt x="575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41" y="20200"/>
                  </a:lnTo>
                  <a:close/>
                </a:path>
                <a:path fill="lighten" w="575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28"/>
            <p:cNvGrpSpPr/>
            <p:nvPr/>
          </p:nvGrpSpPr>
          <p:grpSpPr>
            <a:xfrm>
              <a:off x="2875680" y="5519880"/>
              <a:ext cx="3914640" cy="672120"/>
              <a:chOff x="2875680" y="5519880"/>
              <a:chExt cx="3914640" cy="672120"/>
            </a:xfrm>
          </p:grpSpPr>
          <p:sp>
            <p:nvSpPr>
              <p:cNvPr id="801" name="Text Box 25"/>
              <p:cNvSpPr/>
              <p:nvPr/>
            </p:nvSpPr>
            <p:spPr>
              <a:xfrm>
                <a:off x="2875680" y="5732280"/>
                <a:ext cx="39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所以，当剪去的小正方形的边长为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m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时，容器的容积最大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02" name="Object 30"/>
              <p:cNvGraphicFramePr/>
              <p:nvPr/>
            </p:nvGraphicFramePr>
            <p:xfrm>
              <a:off x="6000840" y="5519880"/>
              <a:ext cx="230040" cy="35856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03" name="Object 30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6000840" y="5519880"/>
                        <a:ext cx="23004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4" name="Object 31"/>
            <p:cNvGraphicFramePr/>
            <p:nvPr/>
          </p:nvGraphicFramePr>
          <p:xfrm>
            <a:off x="5219640" y="5516640"/>
            <a:ext cx="536760" cy="80172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805" name="Object 3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219640" y="5516640"/>
                      <a:ext cx="536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6" name="Object 32"/>
          <p:cNvGraphicFramePr/>
          <p:nvPr/>
        </p:nvGraphicFramePr>
        <p:xfrm>
          <a:off x="4140360" y="2276640"/>
          <a:ext cx="1658880" cy="936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07" name="Object 32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140360" y="2276640"/>
                    <a:ext cx="165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33"/>
          <p:cNvGraphicFramePr/>
          <p:nvPr/>
        </p:nvGraphicFramePr>
        <p:xfrm>
          <a:off x="4356000" y="3645000"/>
          <a:ext cx="2592360" cy="5000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09" name="Object 33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356000" y="3645000"/>
                    <a:ext cx="2592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50"/>
          <p:cNvSpPr/>
          <p:nvPr/>
        </p:nvSpPr>
        <p:spPr>
          <a:xfrm>
            <a:off x="2268360" y="269064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的极值，最值，最值应用问题的求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3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2"/>
          <p:cNvGraphicFramePr/>
          <p:nvPr/>
        </p:nvGraphicFramePr>
        <p:xfrm>
          <a:off x="611280" y="765000"/>
          <a:ext cx="7635960" cy="4059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76359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27"/>
          <p:cNvGrpSpPr/>
          <p:nvPr/>
        </p:nvGrpSpPr>
        <p:grpSpPr>
          <a:xfrm>
            <a:off x="2484360" y="3429000"/>
            <a:ext cx="4463280" cy="2303640"/>
            <a:chOff x="2484360" y="3429000"/>
            <a:chExt cx="4463280" cy="2303640"/>
          </a:xfrm>
        </p:grpSpPr>
        <p:sp>
          <p:nvSpPr>
            <p:cNvPr id="98" name="Line 28"/>
            <p:cNvSpPr/>
            <p:nvPr/>
          </p:nvSpPr>
          <p:spPr>
            <a:xfrm flipV="1">
              <a:off x="3890880" y="4054680"/>
              <a:ext cx="612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 flipV="1">
              <a:off x="4677120" y="4822920"/>
              <a:ext cx="612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30"/>
            <p:cNvGrpSpPr/>
            <p:nvPr/>
          </p:nvGrpSpPr>
          <p:grpSpPr>
            <a:xfrm>
              <a:off x="2484360" y="3429000"/>
              <a:ext cx="4463280" cy="2303640"/>
              <a:chOff x="2484360" y="3429000"/>
              <a:chExt cx="4463280" cy="2303640"/>
            </a:xfrm>
          </p:grpSpPr>
          <p:pic>
            <p:nvPicPr>
              <p:cNvPr id="101" name="Picture 31" descr=""/>
              <p:cNvPicPr/>
              <p:nvPr/>
            </p:nvPicPr>
            <p:blipFill>
              <a:blip r:embed="rId8"/>
              <a:srcRect l="0" t="0" r="0" b="33519"/>
              <a:stretch/>
            </p:blipFill>
            <p:spPr>
              <a:xfrm>
                <a:off x="2484360" y="3429000"/>
                <a:ext cx="3552120" cy="23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Group 32"/>
              <p:cNvGrpSpPr/>
              <p:nvPr/>
            </p:nvGrpSpPr>
            <p:grpSpPr>
              <a:xfrm>
                <a:off x="3945960" y="3841920"/>
                <a:ext cx="3001680" cy="1828080"/>
                <a:chOff x="3945960" y="3841920"/>
                <a:chExt cx="3001680" cy="1828080"/>
              </a:xfrm>
            </p:grpSpPr>
            <p:sp>
              <p:nvSpPr>
                <p:cNvPr id="103" name="Text Box 33"/>
                <p:cNvSpPr/>
                <p:nvPr/>
              </p:nvSpPr>
              <p:spPr>
                <a:xfrm>
                  <a:off x="5312880" y="3841920"/>
                  <a:ext cx="163476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y=f(x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 Box 34"/>
                <p:cNvSpPr/>
                <p:nvPr/>
              </p:nvSpPr>
              <p:spPr>
                <a:xfrm>
                  <a:off x="3945960" y="4999680"/>
                  <a:ext cx="11469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35"/>
                <p:cNvSpPr/>
                <p:nvPr/>
              </p:nvSpPr>
              <p:spPr>
                <a:xfrm>
                  <a:off x="4637160" y="4999680"/>
                  <a:ext cx="11469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Object 2"/>
          <p:cNvGraphicFramePr/>
          <p:nvPr/>
        </p:nvGraphicFramePr>
        <p:xfrm>
          <a:off x="826920" y="1413000"/>
          <a:ext cx="7683840" cy="327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413000"/>
                    <a:ext cx="768384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27"/>
          <p:cNvSpPr/>
          <p:nvPr/>
        </p:nvSpPr>
        <p:spPr>
          <a:xfrm>
            <a:off x="826920" y="10123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函数的极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7"/>
          <p:cNvGraphicFramePr/>
          <p:nvPr/>
        </p:nvGraphicFramePr>
        <p:xfrm>
          <a:off x="826920" y="4365720"/>
          <a:ext cx="7280280" cy="19731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4365720"/>
                    <a:ext cx="72802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"/>
          <p:cNvSpPr/>
          <p:nvPr/>
        </p:nvSpPr>
        <p:spPr>
          <a:xfrm>
            <a:off x="764640" y="77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1125360"/>
            <a:ext cx="78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极大值与极小值是一个局部概念，最大最小值是整体概念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39640" y="198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在一个区间上可能有几个极大（小）值，最大最小值至多各一个，函数在某区间内有的极大值可能比极小值还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90560" y="56610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的极值只能在区间的内部取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4929120" y="3000240"/>
          <a:ext cx="3737160" cy="258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29120" y="3000240"/>
                    <a:ext cx="37371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1332000" y="3645000"/>
          <a:ext cx="187164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3645000"/>
                    <a:ext cx="18716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Object 2"/>
          <p:cNvGraphicFramePr/>
          <p:nvPr/>
        </p:nvGraphicFramePr>
        <p:xfrm>
          <a:off x="684360" y="692280"/>
          <a:ext cx="4987800" cy="3433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92280"/>
                    <a:ext cx="49878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0"/>
          <p:cNvGraphicFramePr/>
          <p:nvPr/>
        </p:nvGraphicFramePr>
        <p:xfrm>
          <a:off x="539640" y="3933720"/>
          <a:ext cx="7043760" cy="642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89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933720"/>
                    <a:ext cx="704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4"/>
          <p:cNvGraphicFramePr/>
          <p:nvPr/>
        </p:nvGraphicFramePr>
        <p:xfrm>
          <a:off x="611280" y="5084640"/>
          <a:ext cx="7200720" cy="1224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5084640"/>
                    <a:ext cx="7200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27"/>
          <p:cNvGrpSpPr/>
          <p:nvPr/>
        </p:nvGrpSpPr>
        <p:grpSpPr>
          <a:xfrm>
            <a:off x="5724360" y="1125360"/>
            <a:ext cx="2950560" cy="1872000"/>
            <a:chOff x="5724360" y="1125360"/>
            <a:chExt cx="2950560" cy="1872000"/>
          </a:xfrm>
        </p:grpSpPr>
        <p:sp>
          <p:nvSpPr>
            <p:cNvPr id="193" name="Line 28"/>
            <p:cNvSpPr/>
            <p:nvPr/>
          </p:nvSpPr>
          <p:spPr>
            <a:xfrm flipV="1">
              <a:off x="6654240" y="1633680"/>
              <a:ext cx="4050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 flipV="1">
              <a:off x="7174080" y="2258280"/>
              <a:ext cx="4050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0"/>
            <p:cNvGrpSpPr/>
            <p:nvPr/>
          </p:nvGrpSpPr>
          <p:grpSpPr>
            <a:xfrm>
              <a:off x="5724360" y="1125360"/>
              <a:ext cx="2950560" cy="1872000"/>
              <a:chOff x="5724360" y="1125360"/>
              <a:chExt cx="2950560" cy="1872000"/>
            </a:xfrm>
          </p:grpSpPr>
          <p:pic>
            <p:nvPicPr>
              <p:cNvPr id="196" name="Picture 31" descr=""/>
              <p:cNvPicPr/>
              <p:nvPr/>
            </p:nvPicPr>
            <p:blipFill>
              <a:blip r:embed="rId12"/>
              <a:srcRect l="0" t="0" r="0" b="33519"/>
              <a:stretch/>
            </p:blipFill>
            <p:spPr>
              <a:xfrm>
                <a:off x="5724360" y="1125360"/>
                <a:ext cx="2348280" cy="187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7" name="Group 32"/>
              <p:cNvGrpSpPr/>
              <p:nvPr/>
            </p:nvGrpSpPr>
            <p:grpSpPr>
              <a:xfrm>
                <a:off x="6690600" y="1460880"/>
                <a:ext cx="1984320" cy="1485360"/>
                <a:chOff x="6690600" y="1460880"/>
                <a:chExt cx="1984320" cy="1485360"/>
              </a:xfrm>
            </p:grpSpPr>
            <p:sp>
              <p:nvSpPr>
                <p:cNvPr id="198" name="Text Box 33"/>
                <p:cNvSpPr/>
                <p:nvPr/>
              </p:nvSpPr>
              <p:spPr>
                <a:xfrm>
                  <a:off x="7594200" y="1460880"/>
                  <a:ext cx="108072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y=f(x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34"/>
                <p:cNvSpPr/>
                <p:nvPr/>
              </p:nvSpPr>
              <p:spPr>
                <a:xfrm>
                  <a:off x="6690600" y="2401560"/>
                  <a:ext cx="758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35"/>
                <p:cNvSpPr/>
                <p:nvPr/>
              </p:nvSpPr>
              <p:spPr>
                <a:xfrm>
                  <a:off x="7147440" y="2401560"/>
                  <a:ext cx="758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01" name="Object 39"/>
          <p:cNvGraphicFramePr/>
          <p:nvPr/>
        </p:nvGraphicFramePr>
        <p:xfrm>
          <a:off x="2411280" y="4581360"/>
          <a:ext cx="3049560" cy="48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Object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4581360"/>
                    <a:ext cx="30495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5" name="Object 2"/>
          <p:cNvGraphicFramePr/>
          <p:nvPr/>
        </p:nvGraphicFramePr>
        <p:xfrm>
          <a:off x="826920" y="1773360"/>
          <a:ext cx="7683840" cy="395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773360"/>
                    <a:ext cx="76838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27"/>
          <p:cNvGraphicFramePr/>
          <p:nvPr/>
        </p:nvGraphicFramePr>
        <p:xfrm>
          <a:off x="1042920" y="1052640"/>
          <a:ext cx="388944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1052640"/>
                    <a:ext cx="388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1" name="Object 2"/>
          <p:cNvGraphicFramePr/>
          <p:nvPr/>
        </p:nvGraphicFramePr>
        <p:xfrm>
          <a:off x="1332000" y="907920"/>
          <a:ext cx="6576840" cy="494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907920"/>
                    <a:ext cx="657684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Object 2"/>
          <p:cNvGraphicFramePr/>
          <p:nvPr/>
        </p:nvGraphicFramePr>
        <p:xfrm>
          <a:off x="684360" y="404640"/>
          <a:ext cx="7418160" cy="1052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04640"/>
                    <a:ext cx="7418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7"/>
          <p:cNvGraphicFramePr/>
          <p:nvPr/>
        </p:nvGraphicFramePr>
        <p:xfrm>
          <a:off x="539640" y="3141720"/>
          <a:ext cx="8128080" cy="2879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141720"/>
                    <a:ext cx="81280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28"/>
          <p:cNvGraphicFramePr/>
          <p:nvPr/>
        </p:nvGraphicFramePr>
        <p:xfrm>
          <a:off x="582480" y="1052640"/>
          <a:ext cx="7767720" cy="892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2480" y="1052640"/>
                    <a:ext cx="77677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29"/>
          <p:cNvGraphicFramePr/>
          <p:nvPr/>
        </p:nvGraphicFramePr>
        <p:xfrm>
          <a:off x="1476360" y="1916280"/>
          <a:ext cx="4229280" cy="545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2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1916280"/>
                    <a:ext cx="4229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0"/>
          <p:cNvGraphicFramePr/>
          <p:nvPr/>
        </p:nvGraphicFramePr>
        <p:xfrm>
          <a:off x="1187280" y="2492280"/>
          <a:ext cx="411480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4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87280" y="2492280"/>
                    <a:ext cx="4114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1"/>
          <p:cNvGraphicFramePr/>
          <p:nvPr/>
        </p:nvGraphicFramePr>
        <p:xfrm>
          <a:off x="1042920" y="3068640"/>
          <a:ext cx="1582920" cy="46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86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3068640"/>
                    <a:ext cx="15829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32"/>
          <p:cNvGraphicFramePr/>
          <p:nvPr/>
        </p:nvGraphicFramePr>
        <p:xfrm>
          <a:off x="1116000" y="5661000"/>
          <a:ext cx="4775040" cy="574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8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16000" y="5661000"/>
                    <a:ext cx="47750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49:25Z</dcterms:modified>
  <cp:revision>101</cp:revision>
  <dc:subject/>
  <dc:title>幻灯片 1</dc:title>
</cp:coreProperties>
</file>